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8552-0BAF-4D69-8D22-0FFF5D95DCD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F6D0-E5CF-4735-9803-43997F8F885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7F92-74C5-416A-9B06-FD98423DD1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D3D-A13E-4D8D-B486-2E46DFDC4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874D-97D5-440D-AB79-230C659F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8B9-2180-4DA8-A7F2-27ACEC58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6A5-0F32-4B01-8CF7-F3057B885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63B-86B4-4BA8-A18C-0FB1D750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EF2-4BB2-4D18-A73D-63A2BAFB3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988-756C-49F6-934A-73E7B334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E28-BDEE-460B-AA75-26BAD902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0D34-0383-4A23-BFFC-AE610735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D537-3FC9-41DC-A345-E204197D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B21D-5B0E-4517-BA37-8A58D7D6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0D5-4D1E-4C49-BF71-6D3FE9E92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D0E3-C1C5-4EC7-9233-E36059A75D26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L’occupazione nei  PS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326880" y="28440"/>
            <a:ext cx="760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. Proposte metodologiche per la programmazione delle politiche e buone pratich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CasellaDiTesto 1"/>
          <p:cNvSpPr/>
          <p:nvPr/>
        </p:nvSpPr>
        <p:spPr>
          <a:xfrm>
            <a:off x="1187280" y="1844640"/>
            <a:ext cx="6697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 agricoltu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vestimenti in azienda agricola e silvicol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Aiuto avviamento attività imprenditori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Nelle aree rur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versificazione econom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per la popolazion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uppi operativi (ricerca e innovazion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ervizi di svilup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ttangolo 2"/>
          <p:cNvSpPr/>
          <p:nvPr/>
        </p:nvSpPr>
        <p:spPr>
          <a:xfrm>
            <a:off x="250920" y="17136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Occup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Calcolo dell’occupazione nei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Rettangolo 1"/>
          <p:cNvSpPr/>
          <p:nvPr/>
        </p:nvSpPr>
        <p:spPr>
          <a:xfrm>
            <a:off x="1403280" y="1197000"/>
            <a:ext cx="7201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8) promuovere un’occupazione sostenibile e di qualità e sostenere la mobilità dei lavoratori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9) promuovere l’inclusione sociale e combattere la povertà e ogni discriminazione;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ettangolo 1"/>
          <p:cNvSpPr/>
          <p:nvPr/>
        </p:nvSpPr>
        <p:spPr>
          <a:xfrm>
            <a:off x="1187280" y="4735440"/>
            <a:ext cx="64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Elementi strutturanti definiti nel quadro di regolamentazione. Per contribuire al finanziamento della strategia Europa 2020, i fondi SIE concentrano il sostegno su un numero limitato di obiettivi tematici comuni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Rettangolo 3"/>
          <p:cNvSpPr/>
          <p:nvPr/>
        </p:nvSpPr>
        <p:spPr>
          <a:xfrm>
            <a:off x="344160" y="13968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Gli 11 obiettivi tematici dei fondi SI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ttangolo 1"/>
          <p:cNvSpPr/>
          <p:nvPr/>
        </p:nvSpPr>
        <p:spPr>
          <a:xfrm>
            <a:off x="2050920" y="2133720"/>
            <a:ext cx="6410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6) 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Adoperarsi per l’inclusione social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, la riduzione della povertà e lo sviluppo economico nelle zone rurali, con particolare riguardo ai seguenti aspetti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a) favorire la diversificazione, la creazione e lo sviluppo di piccole imprese nonché dell’</a:t>
            </a: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ccupazione</a:t>
            </a: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b) stimolare lo sviluppo locale nelle zone rurali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c) promuovere l’accessibilità, l’uso e la qualità delle tecnologie dell’informazione e della comunicazione (TIC) nelle zone rurali.”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Immagine 1" descr=""/>
          <p:cNvPicPr/>
          <p:nvPr/>
        </p:nvPicPr>
        <p:blipFill>
          <a:blip r:embed="rId2"/>
          <a:stretch/>
        </p:blipFill>
        <p:spPr>
          <a:xfrm>
            <a:off x="1979640" y="1413000"/>
            <a:ext cx="3168720" cy="4467240"/>
          </a:xfrm>
          <a:prstGeom prst="rect">
            <a:avLst/>
          </a:prstGeom>
          <a:ln w="0">
            <a:noFill/>
          </a:ln>
        </p:spPr>
      </p:pic>
      <p:sp>
        <p:nvSpPr>
          <p:cNvPr id="138" name="CasellaDiTesto 2"/>
          <p:cNvSpPr/>
          <p:nvPr/>
        </p:nvSpPr>
        <p:spPr>
          <a:xfrm>
            <a:off x="5378760" y="1989000"/>
            <a:ext cx="33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Verifica del raggiungimen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ei valori obiettivo a livello d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ocus are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Immagine 3" descr=""/>
          <p:cNvPicPr/>
          <p:nvPr/>
        </p:nvPicPr>
        <p:blipFill>
          <a:blip r:embed="rId2"/>
          <a:stretch/>
        </p:blipFill>
        <p:spPr>
          <a:xfrm>
            <a:off x="2124000" y="1197000"/>
            <a:ext cx="6408720" cy="46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Immagine 1" descr=""/>
          <p:cNvPicPr/>
          <p:nvPr/>
        </p:nvPicPr>
        <p:blipFill>
          <a:blip r:embed="rId2"/>
          <a:stretch/>
        </p:blipFill>
        <p:spPr>
          <a:xfrm>
            <a:off x="1692360" y="860400"/>
            <a:ext cx="4895640" cy="501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7" name="Immagine 2" descr=""/>
          <p:cNvPicPr/>
          <p:nvPr/>
        </p:nvPicPr>
        <p:blipFill>
          <a:blip r:embed="rId2"/>
          <a:stretch/>
        </p:blipFill>
        <p:spPr>
          <a:xfrm>
            <a:off x="2124000" y="1004760"/>
            <a:ext cx="5112000" cy="4872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0" name="Immagine 1" descr=""/>
          <p:cNvPicPr/>
          <p:nvPr/>
        </p:nvPicPr>
        <p:blipFill>
          <a:blip r:embed="rId2"/>
          <a:stretch/>
        </p:blipFill>
        <p:spPr>
          <a:xfrm>
            <a:off x="5230800" y="1268280"/>
            <a:ext cx="3887640" cy="4241880"/>
          </a:xfrm>
          <a:prstGeom prst="rect">
            <a:avLst/>
          </a:prstGeom>
          <a:ln w="0">
            <a:noFill/>
          </a:ln>
        </p:spPr>
      </p:pic>
      <p:pic>
        <p:nvPicPr>
          <p:cNvPr id="151" name="Immagine 3" descr=""/>
          <p:cNvPicPr/>
          <p:nvPr/>
        </p:nvPicPr>
        <p:blipFill>
          <a:blip r:embed="rId3"/>
          <a:stretch/>
        </p:blipFill>
        <p:spPr>
          <a:xfrm>
            <a:off x="1116000" y="1274760"/>
            <a:ext cx="3933720" cy="426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Maria Carmela Macri</cp:lastModifiedBy>
  <dcterms:modified xsi:type="dcterms:W3CDTF">2017-12-14T12:53:04Z</dcterms:modified>
  <cp:revision>337</cp:revision>
  <dc:subject/>
  <dc:title>Quali politiche e quali governances per i piccoli comuni</dc:title>
</cp:coreProperties>
</file>